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950-484B-438B-B94D-C24C4079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4F3-7EFB-49F5-B477-0D949403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BC8-7EA9-4548-9455-829C7474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0C2-C5E6-435D-949F-BCD0DE13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BD5-003B-4F19-A51D-365812C4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14A6-9952-48D9-8E2A-A4C67144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2456-FBBF-4B24-892D-6FF3D9DB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1153-4737-4884-B37D-F7377A31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1E43-43F7-478C-B457-60A2B4F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A65-64A1-42FD-9319-A4535B60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FF9B-816D-42A4-A9AD-0423699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2AA-28A1-4A81-8CF1-3735011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9337-5856-4C2F-858D-C6032CF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0E98-9EEC-4E28-A1E1-C2A55C1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8BC-7ACD-49D9-8B7B-2C095BF2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68BB-0E4A-4C0B-AE7A-AD51137D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0D7E-0532-4BAA-B161-9DFF879A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CAE-2F4B-4231-AEAD-6216FED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4EF-6E6E-4215-8FC7-7AB82A73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62A-6276-46EA-AD04-FB21F145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698-125A-4ACE-9E04-2ACCDEA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80C-10B1-4B1D-AE93-1083ED3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41F-8CC9-460E-BDDA-7D5C816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80D-AD71-4BD1-B396-A7D7F19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BD1F-FB4B-4F49-8146-3800C7954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F268-8C8E-4E87-B6A8-5FA4485E2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animalpix.ru/wallpapers/276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69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собенности подбора певчих и декоративных птиц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ноземного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исхождения в уголках природы разных возрастных групп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Попугаи фото"/>
          <p:cNvPicPr/>
          <p:nvPr/>
        </p:nvPicPr>
        <p:blipFill>
          <a:blip r:embed="rId1"/>
          <a:stretch/>
        </p:blipFill>
        <p:spPr>
          <a:xfrm>
            <a:off x="3048120" y="4724280"/>
            <a:ext cx="350496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попугаи - пара попугаев сидят на жердочке, для мобильного телефона"/>
          <p:cNvPicPr/>
          <p:nvPr/>
        </p:nvPicPr>
        <p:blipFill>
          <a:blip r:embed="rId2"/>
          <a:stretch/>
        </p:blipFill>
        <p:spPr>
          <a:xfrm>
            <a:off x="990720" y="4724280"/>
            <a:ext cx="17618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Обои для рабочего стола - А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7242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57800" y="380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студентка -Вахнина Ю., 636 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ладшая групп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Птица в клетке как временный 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епить название птицы, знание характерных признаков внешнего вида (отметить, что у птицы есть перья, крылья, она летает; клюёт зёрнышки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ня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6483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69080" y="46483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дополнить знания детей о внешнем виде и повадках птиц. Учить более точно описывать птиц (у неё маленькая голова; маленькие чёрные круглые глаза; тонкие ножки, на них пальцы и т.д.). Расширить знания детей о повадках птички: она купается в воде, чистит пёрышки, поёт. Уточнить и дополнить знания о птичках, её корме. Укреплять интерес к птицам и уходу за ней. Закрепить знания слов: кормушка, купалка, поил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ша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48560" y="6248160"/>
            <a:ext cx="145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18480" y="47293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ить знания детей о повадках птиц. Продолжать воспитывать бережное отношение к ним и желание заботиться о хорошем их состоянии. Разнообразить работу дежурных по уходу за птицами, живущих в уголке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дготовительная групп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57320" y="4724280"/>
            <a:ext cx="183816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5943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лнистый попугай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943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781680" y="23623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8288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расширить знания детей о птицах, живущих в уголке природы. Познакомить с новым жильцом уголка – волнистым попугайчиком. Показать своеобразие внешнего вида и повадок: у него загнутый клюв с восковицей, длинный свисающий хвост, на ногах 2 пальца, направленных вперёд, 1 – назад, окраска пёстрая, рисунок в виде волн, попугайчик летает и лазает. Учить сравнивать попугайчика с другими птицами, отмечая различия и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D312</cp:lastModifiedBy>
  <dcterms:modified xsi:type="dcterms:W3CDTF">2010-05-17T06:46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